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27C-F769-4DC7-9334-78D5D131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A59-0AB7-4AA9-83BB-240E3911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657-389E-4796-948F-BB907B50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72E8-B748-4388-9DE2-76E6C16E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3F28-09B7-4B8C-8354-CECEC539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16AF-EDA0-4A0F-BF10-64991D18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D8CF-372E-4FE6-87F4-54166FFE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821C-B522-41DA-8898-B265DF3E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A26E-FA79-4999-B5EA-169D84F7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F415-D54B-4AB7-A7A0-14DF5AA2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0305-EE4B-412E-893F-FD77376A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C90-85A4-4FFE-B5A3-C659F8FF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6C28-6448-4D53-BFE0-86A292C8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CB90-D1ED-45FB-925F-042D9596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EF7C-65D3-41A5-9B2C-B5B27642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10D2-5410-47BE-B8E1-A86B6B3C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EAB0-BE35-4532-A161-F8948335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077-D4EA-4686-8B13-6F0275CE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105-8C8B-4D7F-9FA3-C12C3F35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C15E-A690-4777-B297-1EB3670B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18CF-8374-43DD-9363-FD86FBFD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50F-BD19-4689-9F53-2936B5D1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973-496D-434F-8FDF-3DDF6B58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D7D-ED58-4388-AE41-2468027C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75D9-04F4-4DB8-B5B6-F51F5623A6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2CB0-4FD2-42E7-ADD1-B1AFA3A03A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The Divine Comedy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nte Alighier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ivine Come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ritten between 1308 and 132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entral epic poem of Italian literatur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vided into three par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ferno (Hel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urgatorio (Purgatory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adiso (Paradis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s the journey of the soul toward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ern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vided into 9 circles of suffer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rst Circle – Limb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baptized and virtuous pag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 bad people, but no hope for reconcili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Circle – Lu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uls blown about by violent st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erno (cont.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Circle – Glutt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ose who loved fo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Circle – Avaricious and Prodiga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varicious – hoarded posses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igal – squandered posses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Fifth Circle – Wrathfu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n’t fight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erno (cont.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Circle – Heretic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jection of beliefs of a religious bod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Circle – Viol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oken into three r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er Ring – violent against people and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dle Ring – Suic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Ring – violent against God, violent against nature, violent against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erno (cont.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ighth Circle – Fraudul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uilty of a deliberate ev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nth Circle – Traito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ose who betray someone in a special relationsh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rgator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lls of a climb up a mountain where there is much spiritual growt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95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adis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aven!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lls of Dante’s vision of heave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18:36:02Z</dcterms:created>
  <dc:creator>jvanengen</dc:creator>
  <dc:description/>
  <dc:language>en-US</dc:language>
  <cp:lastModifiedBy>jvanengen</cp:lastModifiedBy>
  <dcterms:modified xsi:type="dcterms:W3CDTF">2009-08-16T19:25:52Z</dcterms:modified>
  <cp:revision>5</cp:revision>
  <dc:subject/>
  <dc:title>The Divine Comedy</dc:title>
</cp:coreProperties>
</file>